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958B9-1F98-4D5F-8369-5112CFAB4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5295-E384-4386-8E8B-00234DBB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9BB24-BA61-4698-910C-0674C0EE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26CEF-22A5-48FF-972A-BF5DDE768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7233A-C829-4FDD-930E-7028636A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4B5A-627F-4025-B8F1-D1AAF2BB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D086E-175E-4DF6-A15E-CCE8C8C78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6D5A-43AB-480D-A73A-EDDFAF37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00639-568D-4194-A6B1-446D10D46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00F80-F1FF-400E-A690-B83B7C12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A4E8-D72E-4975-8576-E068A3F0D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697A-A696-4BC2-BD7C-2FBE485F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0000"/>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1775-C519-4FB8-9D50-02EEFDF95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05b5c"/>
            </a:gs>
            <a:gs pos="50000">
              <a:srgbClr val="111111"/>
            </a:gs>
            <a:gs pos="100000">
              <a:srgbClr val="505b5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JasmineUPC"/>
              </a:rPr>
              <a:t>New Arriva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 </a:t>
            </a:r>
            <a:r>
              <a:rPr b="0" lang="en-US" sz="3200" spc="-1" strike="noStrike">
                <a:solidFill>
                  <a:srgbClr val="66ff33"/>
                </a:solidFill>
                <a:latin typeface="JasmineUPC"/>
              </a:rPr>
              <a:t>By Abbey Lowe, Dylan Attard, Christopher Caruso and Matthew Richings</a:t>
            </a:r>
            <a:endParaRPr b="0" lang="en-US" sz="3200" spc="-1" strike="noStrike">
              <a:solidFill>
                <a:srgbClr val="000000"/>
              </a:solidFill>
              <a:latin typeface="Arial"/>
            </a:endParaRPr>
          </a:p>
        </p:txBody>
      </p:sp>
      <p:sp>
        <p:nvSpPr>
          <p:cNvPr id="43" name=""/>
          <p:cNvSpPr/>
          <p:nvPr/>
        </p:nvSpPr>
        <p:spPr>
          <a:xfrm>
            <a:off x="2214720" y="625320"/>
            <a:ext cx="2170080" cy="1731960"/>
          </a:xfrm>
          <a:custGeom>
            <a:avLst/>
            <a:gdLst/>
            <a:ahLst/>
            <a:rect l="l" t="t" r="r" b="b"/>
            <a:pathLst>
              <a:path w="6028" h="4813">
                <a:moveTo>
                  <a:pt x="7193" y="3497"/>
                </a:moveTo>
                <a:cubicBezTo>
                  <a:pt x="7317" y="3497"/>
                  <a:pt x="7441" y="3497"/>
                  <a:pt x="7565" y="3497"/>
                </a:cubicBezTo>
                <a:cubicBezTo>
                  <a:pt x="7578" y="3491"/>
                  <a:pt x="7604" y="3482"/>
                  <a:pt x="7640" y="3473"/>
                </a:cubicBezTo>
                <a:cubicBezTo>
                  <a:pt x="7674" y="3465"/>
                  <a:pt x="7704" y="3459"/>
                  <a:pt x="7739" y="3448"/>
                </a:cubicBezTo>
                <a:cubicBezTo>
                  <a:pt x="7785" y="3434"/>
                  <a:pt x="7816" y="3431"/>
                  <a:pt x="7863" y="3423"/>
                </a:cubicBezTo>
                <a:cubicBezTo>
                  <a:pt x="7871" y="3423"/>
                  <a:pt x="7880" y="3423"/>
                  <a:pt x="7888" y="3423"/>
                </a:cubicBezTo>
                <a:cubicBezTo>
                  <a:pt x="7900" y="3419"/>
                  <a:pt x="7918" y="3400"/>
                  <a:pt x="7962" y="3398"/>
                </a:cubicBezTo>
                <a:cubicBezTo>
                  <a:pt x="7995" y="3397"/>
                  <a:pt x="8029" y="3398"/>
                  <a:pt x="8062" y="3398"/>
                </a:cubicBezTo>
                <a:cubicBezTo>
                  <a:pt x="8075" y="3394"/>
                  <a:pt x="8092" y="3375"/>
                  <a:pt x="8136" y="3373"/>
                </a:cubicBezTo>
                <a:cubicBezTo>
                  <a:pt x="8870" y="3342"/>
                  <a:pt x="9619" y="3415"/>
                  <a:pt x="10344" y="3349"/>
                </a:cubicBezTo>
                <a:cubicBezTo>
                  <a:pt x="10403" y="3344"/>
                  <a:pt x="10471" y="3329"/>
                  <a:pt x="10517" y="3324"/>
                </a:cubicBezTo>
                <a:cubicBezTo>
                  <a:pt x="10550" y="3320"/>
                  <a:pt x="10583" y="3327"/>
                  <a:pt x="10616" y="3324"/>
                </a:cubicBezTo>
                <a:cubicBezTo>
                  <a:pt x="10618" y="3323"/>
                  <a:pt x="10649" y="3307"/>
                  <a:pt x="10666" y="3299"/>
                </a:cubicBezTo>
                <a:cubicBezTo>
                  <a:pt x="10678" y="3295"/>
                  <a:pt x="10696" y="3276"/>
                  <a:pt x="10740" y="3274"/>
                </a:cubicBezTo>
                <a:cubicBezTo>
                  <a:pt x="10938" y="3266"/>
                  <a:pt x="11138" y="3274"/>
                  <a:pt x="11336" y="3274"/>
                </a:cubicBezTo>
                <a:cubicBezTo>
                  <a:pt x="11349" y="3270"/>
                  <a:pt x="11367" y="3251"/>
                  <a:pt x="11410" y="3249"/>
                </a:cubicBezTo>
                <a:cubicBezTo>
                  <a:pt x="11435" y="3249"/>
                  <a:pt x="11443" y="3249"/>
                  <a:pt x="11460" y="3249"/>
                </a:cubicBezTo>
              </a:path>
              <a:path w="6028" h="4813">
                <a:moveTo>
                  <a:pt x="7317" y="3473"/>
                </a:moveTo>
                <a:cubicBezTo>
                  <a:pt x="7065" y="3473"/>
                  <a:pt x="6761" y="3471"/>
                  <a:pt x="6548" y="3497"/>
                </a:cubicBezTo>
                <a:cubicBezTo>
                  <a:pt x="6471" y="3506"/>
                  <a:pt x="6395" y="3503"/>
                  <a:pt x="6350" y="3522"/>
                </a:cubicBezTo>
                <a:cubicBezTo>
                  <a:pt x="6310" y="3539"/>
                  <a:pt x="6307" y="3531"/>
                  <a:pt x="6276" y="3547"/>
                </a:cubicBezTo>
                <a:cubicBezTo>
                  <a:pt x="6254" y="3558"/>
                  <a:pt x="6227" y="3588"/>
                  <a:pt x="6201" y="3621"/>
                </a:cubicBezTo>
                <a:cubicBezTo>
                  <a:pt x="6185" y="3642"/>
                  <a:pt x="6159" y="3663"/>
                  <a:pt x="6152" y="3696"/>
                </a:cubicBezTo>
                <a:cubicBezTo>
                  <a:pt x="6136" y="3772"/>
                  <a:pt x="6171" y="3882"/>
                  <a:pt x="6176" y="3919"/>
                </a:cubicBezTo>
                <a:cubicBezTo>
                  <a:pt x="6181" y="3964"/>
                  <a:pt x="6200" y="4058"/>
                  <a:pt x="6201" y="4068"/>
                </a:cubicBezTo>
                <a:cubicBezTo>
                  <a:pt x="6208" y="4123"/>
                  <a:pt x="6197" y="4115"/>
                  <a:pt x="6226" y="4142"/>
                </a:cubicBezTo>
                <a:cubicBezTo>
                  <a:pt x="6273" y="4187"/>
                  <a:pt x="6275" y="4160"/>
                  <a:pt x="6325" y="4192"/>
                </a:cubicBezTo>
                <a:cubicBezTo>
                  <a:pt x="6378" y="4227"/>
                  <a:pt x="6419" y="4283"/>
                  <a:pt x="6474" y="4316"/>
                </a:cubicBezTo>
                <a:cubicBezTo>
                  <a:pt x="6528" y="4348"/>
                  <a:pt x="6548" y="4392"/>
                  <a:pt x="6573" y="4415"/>
                </a:cubicBezTo>
                <a:cubicBezTo>
                  <a:pt x="6614" y="4419"/>
                  <a:pt x="6631" y="4435"/>
                  <a:pt x="6672" y="4440"/>
                </a:cubicBezTo>
                <a:cubicBezTo>
                  <a:pt x="6735" y="4448"/>
                  <a:pt x="6767" y="4439"/>
                  <a:pt x="6821" y="4465"/>
                </a:cubicBezTo>
                <a:cubicBezTo>
                  <a:pt x="6882" y="4494"/>
                  <a:pt x="6930" y="4540"/>
                  <a:pt x="6995" y="4564"/>
                </a:cubicBezTo>
                <a:cubicBezTo>
                  <a:pt x="7043" y="4582"/>
                  <a:pt x="7092" y="4590"/>
                  <a:pt x="7144" y="4614"/>
                </a:cubicBezTo>
                <a:cubicBezTo>
                  <a:pt x="7160" y="4621"/>
                  <a:pt x="7229" y="4670"/>
                  <a:pt x="7268" y="4688"/>
                </a:cubicBezTo>
                <a:cubicBezTo>
                  <a:pt x="7309" y="4707"/>
                  <a:pt x="7347" y="4729"/>
                  <a:pt x="7392" y="4738"/>
                </a:cubicBezTo>
                <a:cubicBezTo>
                  <a:pt x="7422" y="4744"/>
                  <a:pt x="7470" y="4759"/>
                  <a:pt x="7491" y="4762"/>
                </a:cubicBezTo>
                <a:cubicBezTo>
                  <a:pt x="8178" y="4862"/>
                  <a:pt x="8954" y="4762"/>
                  <a:pt x="9649" y="4762"/>
                </a:cubicBezTo>
              </a:path>
              <a:path w="6028" h="4813">
                <a:moveTo>
                  <a:pt x="9624" y="4787"/>
                </a:moveTo>
                <a:cubicBezTo>
                  <a:pt x="9708" y="4787"/>
                  <a:pt x="9827" y="4806"/>
                  <a:pt x="9872" y="4812"/>
                </a:cubicBezTo>
                <a:cubicBezTo>
                  <a:pt x="9971" y="4824"/>
                  <a:pt x="10021" y="4812"/>
                  <a:pt x="10120" y="4812"/>
                </a:cubicBezTo>
                <a:cubicBezTo>
                  <a:pt x="10401" y="4812"/>
                  <a:pt x="10683" y="4812"/>
                  <a:pt x="10964" y="4812"/>
                </a:cubicBezTo>
                <a:cubicBezTo>
                  <a:pt x="10946" y="4847"/>
                  <a:pt x="10953" y="4858"/>
                  <a:pt x="10939" y="4887"/>
                </a:cubicBezTo>
                <a:cubicBezTo>
                  <a:pt x="10923" y="4920"/>
                  <a:pt x="10907" y="4913"/>
                  <a:pt x="10889" y="4936"/>
                </a:cubicBezTo>
                <a:cubicBezTo>
                  <a:pt x="10872" y="4957"/>
                  <a:pt x="10852" y="4971"/>
                  <a:pt x="10840" y="4986"/>
                </a:cubicBezTo>
                <a:cubicBezTo>
                  <a:pt x="10821" y="5009"/>
                  <a:pt x="10833" y="5039"/>
                  <a:pt x="10815" y="5060"/>
                </a:cubicBezTo>
                <a:cubicBezTo>
                  <a:pt x="10801" y="5075"/>
                  <a:pt x="10767" y="5106"/>
                  <a:pt x="10740" y="5135"/>
                </a:cubicBezTo>
                <a:cubicBezTo>
                  <a:pt x="10706" y="5171"/>
                  <a:pt x="10695" y="5199"/>
                  <a:pt x="10666" y="5234"/>
                </a:cubicBezTo>
                <a:cubicBezTo>
                  <a:pt x="10635" y="5270"/>
                  <a:pt x="10632" y="5278"/>
                  <a:pt x="10616" y="5308"/>
                </a:cubicBezTo>
                <a:cubicBezTo>
                  <a:pt x="10590" y="5356"/>
                  <a:pt x="10568" y="5341"/>
                  <a:pt x="10542" y="5383"/>
                </a:cubicBezTo>
                <a:cubicBezTo>
                  <a:pt x="10527" y="5408"/>
                  <a:pt x="10474" y="5496"/>
                  <a:pt x="10468" y="5507"/>
                </a:cubicBezTo>
                <a:cubicBezTo>
                  <a:pt x="10448" y="5546"/>
                  <a:pt x="10433" y="5580"/>
                  <a:pt x="10418" y="5606"/>
                </a:cubicBezTo>
                <a:cubicBezTo>
                  <a:pt x="10397" y="5642"/>
                  <a:pt x="10389" y="5661"/>
                  <a:pt x="10368" y="5705"/>
                </a:cubicBezTo>
                <a:cubicBezTo>
                  <a:pt x="10353" y="5736"/>
                  <a:pt x="10342" y="5738"/>
                  <a:pt x="10319" y="5779"/>
                </a:cubicBezTo>
                <a:cubicBezTo>
                  <a:pt x="10303" y="5808"/>
                  <a:pt x="10312" y="5818"/>
                  <a:pt x="10294" y="5854"/>
                </a:cubicBezTo>
                <a:cubicBezTo>
                  <a:pt x="10279" y="5885"/>
                  <a:pt x="10259" y="5883"/>
                  <a:pt x="10244" y="5904"/>
                </a:cubicBezTo>
                <a:cubicBezTo>
                  <a:pt x="10228" y="5928"/>
                  <a:pt x="10231" y="5956"/>
                  <a:pt x="10220" y="5978"/>
                </a:cubicBezTo>
                <a:cubicBezTo>
                  <a:pt x="10206" y="6007"/>
                  <a:pt x="10212" y="6017"/>
                  <a:pt x="10195" y="6052"/>
                </a:cubicBezTo>
                <a:cubicBezTo>
                  <a:pt x="10190" y="6063"/>
                  <a:pt x="10182" y="6099"/>
                  <a:pt x="10170" y="6127"/>
                </a:cubicBezTo>
                <a:cubicBezTo>
                  <a:pt x="10144" y="6187"/>
                  <a:pt x="10102" y="6241"/>
                  <a:pt x="10071" y="6300"/>
                </a:cubicBezTo>
                <a:cubicBezTo>
                  <a:pt x="10056" y="6330"/>
                  <a:pt x="10064" y="6338"/>
                  <a:pt x="10046" y="6375"/>
                </a:cubicBezTo>
                <a:cubicBezTo>
                  <a:pt x="10041" y="6386"/>
                  <a:pt x="10033" y="6419"/>
                  <a:pt x="10021" y="6449"/>
                </a:cubicBezTo>
                <a:cubicBezTo>
                  <a:pt x="9996" y="6449"/>
                  <a:pt x="9988" y="6449"/>
                  <a:pt x="9996" y="6474"/>
                </a:cubicBezTo>
                <a:cubicBezTo>
                  <a:pt x="10047" y="6470"/>
                  <a:pt x="10107" y="6453"/>
                  <a:pt x="10145" y="6449"/>
                </a:cubicBezTo>
                <a:cubicBezTo>
                  <a:pt x="10237" y="6439"/>
                  <a:pt x="10328" y="6427"/>
                  <a:pt x="10418" y="6424"/>
                </a:cubicBezTo>
                <a:cubicBezTo>
                  <a:pt x="10516" y="6421"/>
                  <a:pt x="10601" y="6401"/>
                  <a:pt x="10691" y="6375"/>
                </a:cubicBezTo>
                <a:cubicBezTo>
                  <a:pt x="10764" y="6354"/>
                  <a:pt x="10776" y="6327"/>
                  <a:pt x="10840" y="6300"/>
                </a:cubicBezTo>
                <a:cubicBezTo>
                  <a:pt x="10870" y="6270"/>
                  <a:pt x="10914" y="6226"/>
                  <a:pt x="10964" y="6176"/>
                </a:cubicBezTo>
                <a:cubicBezTo>
                  <a:pt x="10988" y="6152"/>
                  <a:pt x="11056" y="6093"/>
                  <a:pt x="11088" y="6077"/>
                </a:cubicBezTo>
                <a:cubicBezTo>
                  <a:pt x="11146" y="6048"/>
                  <a:pt x="11222" y="6002"/>
                  <a:pt x="11261" y="5978"/>
                </a:cubicBezTo>
                <a:cubicBezTo>
                  <a:pt x="11286" y="5962"/>
                  <a:pt x="11324" y="5944"/>
                  <a:pt x="11336" y="5928"/>
                </a:cubicBezTo>
                <a:cubicBezTo>
                  <a:pt x="11353" y="5906"/>
                  <a:pt x="11352" y="5881"/>
                  <a:pt x="11385" y="5854"/>
                </a:cubicBezTo>
                <a:cubicBezTo>
                  <a:pt x="11409" y="5834"/>
                  <a:pt x="11425" y="5834"/>
                  <a:pt x="11460" y="5804"/>
                </a:cubicBezTo>
                <a:cubicBezTo>
                  <a:pt x="11488" y="5781"/>
                  <a:pt x="11521" y="5739"/>
                  <a:pt x="11534" y="5730"/>
                </a:cubicBezTo>
                <a:cubicBezTo>
                  <a:pt x="11580" y="5697"/>
                  <a:pt x="11572" y="5697"/>
                  <a:pt x="11609" y="5655"/>
                </a:cubicBezTo>
                <a:cubicBezTo>
                  <a:pt x="11620" y="5642"/>
                  <a:pt x="11648" y="5592"/>
                  <a:pt x="11658" y="5581"/>
                </a:cubicBezTo>
                <a:cubicBezTo>
                  <a:pt x="11700" y="5537"/>
                  <a:pt x="11695" y="5533"/>
                  <a:pt x="11733" y="5482"/>
                </a:cubicBezTo>
                <a:cubicBezTo>
                  <a:pt x="11747" y="5463"/>
                  <a:pt x="11783" y="5422"/>
                  <a:pt x="11807" y="5383"/>
                </a:cubicBezTo>
                <a:cubicBezTo>
                  <a:pt x="11815" y="5370"/>
                  <a:pt x="11841" y="5339"/>
                  <a:pt x="11857" y="5308"/>
                </a:cubicBezTo>
                <a:cubicBezTo>
                  <a:pt x="11860" y="5302"/>
                  <a:pt x="11901" y="5260"/>
                  <a:pt x="11906" y="5234"/>
                </a:cubicBezTo>
                <a:cubicBezTo>
                  <a:pt x="11923" y="5143"/>
                  <a:pt x="11906" y="4896"/>
                  <a:pt x="11906" y="4887"/>
                </a:cubicBezTo>
                <a:cubicBezTo>
                  <a:pt x="11906" y="4895"/>
                  <a:pt x="11906" y="4903"/>
                  <a:pt x="11906" y="4911"/>
                </a:cubicBezTo>
              </a:path>
              <a:path w="6028" h="4813">
                <a:moveTo>
                  <a:pt x="7466" y="3522"/>
                </a:moveTo>
                <a:cubicBezTo>
                  <a:pt x="7448" y="3492"/>
                  <a:pt x="7459" y="3485"/>
                  <a:pt x="7441" y="3448"/>
                </a:cubicBezTo>
                <a:cubicBezTo>
                  <a:pt x="7430" y="3425"/>
                  <a:pt x="7400" y="3408"/>
                  <a:pt x="7392" y="3373"/>
                </a:cubicBezTo>
                <a:cubicBezTo>
                  <a:pt x="7382" y="3330"/>
                  <a:pt x="7389" y="3326"/>
                  <a:pt x="7367" y="3299"/>
                </a:cubicBezTo>
                <a:cubicBezTo>
                  <a:pt x="7356" y="3285"/>
                  <a:pt x="7329" y="3212"/>
                  <a:pt x="7317" y="3200"/>
                </a:cubicBezTo>
                <a:cubicBezTo>
                  <a:pt x="7294" y="3177"/>
                  <a:pt x="7264" y="3156"/>
                  <a:pt x="7243" y="3125"/>
                </a:cubicBezTo>
                <a:cubicBezTo>
                  <a:pt x="7213" y="3081"/>
                  <a:pt x="7176" y="3044"/>
                  <a:pt x="7144" y="3001"/>
                </a:cubicBezTo>
                <a:cubicBezTo>
                  <a:pt x="7100" y="2942"/>
                  <a:pt x="7090" y="2931"/>
                  <a:pt x="7069" y="2877"/>
                </a:cubicBezTo>
                <a:cubicBezTo>
                  <a:pt x="7046" y="2818"/>
                  <a:pt x="7024" y="2786"/>
                  <a:pt x="6995" y="2729"/>
                </a:cubicBezTo>
                <a:cubicBezTo>
                  <a:pt x="6992" y="2723"/>
                  <a:pt x="6949" y="2662"/>
                  <a:pt x="6945" y="2654"/>
                </a:cubicBezTo>
                <a:cubicBezTo>
                  <a:pt x="6928" y="2621"/>
                  <a:pt x="6912" y="2597"/>
                  <a:pt x="6896" y="2580"/>
                </a:cubicBezTo>
                <a:cubicBezTo>
                  <a:pt x="6879" y="2562"/>
                  <a:pt x="6888" y="2524"/>
                  <a:pt x="6871" y="2505"/>
                </a:cubicBezTo>
                <a:cubicBezTo>
                  <a:pt x="6828" y="2458"/>
                  <a:pt x="6849" y="2478"/>
                  <a:pt x="6821" y="2431"/>
                </a:cubicBezTo>
                <a:cubicBezTo>
                  <a:pt x="6809" y="2411"/>
                  <a:pt x="6786" y="2382"/>
                  <a:pt x="6772" y="2356"/>
                </a:cubicBezTo>
                <a:cubicBezTo>
                  <a:pt x="6750" y="2315"/>
                  <a:pt x="6720" y="2280"/>
                  <a:pt x="6697" y="2257"/>
                </a:cubicBezTo>
                <a:cubicBezTo>
                  <a:pt x="6673" y="2233"/>
                  <a:pt x="6689" y="2218"/>
                  <a:pt x="6672" y="2183"/>
                </a:cubicBezTo>
                <a:cubicBezTo>
                  <a:pt x="6669" y="2177"/>
                  <a:pt x="6659" y="2129"/>
                  <a:pt x="6648" y="2108"/>
                </a:cubicBezTo>
                <a:cubicBezTo>
                  <a:pt x="6645" y="2101"/>
                  <a:pt x="6634" y="2056"/>
                  <a:pt x="6623" y="2034"/>
                </a:cubicBezTo>
                <a:cubicBezTo>
                  <a:pt x="6608" y="2004"/>
                  <a:pt x="6597" y="2007"/>
                  <a:pt x="6573" y="1984"/>
                </a:cubicBezTo>
                <a:cubicBezTo>
                  <a:pt x="6549" y="1960"/>
                  <a:pt x="6565" y="1946"/>
                  <a:pt x="6548" y="1910"/>
                </a:cubicBezTo>
                <a:cubicBezTo>
                  <a:pt x="6545" y="1905"/>
                  <a:pt x="6534" y="1857"/>
                  <a:pt x="6524" y="1836"/>
                </a:cubicBezTo>
                <a:cubicBezTo>
                  <a:pt x="6518" y="1824"/>
                  <a:pt x="6486" y="1776"/>
                  <a:pt x="6474" y="1761"/>
                </a:cubicBezTo>
                <a:cubicBezTo>
                  <a:pt x="6474" y="1736"/>
                  <a:pt x="6474" y="1728"/>
                  <a:pt x="6449" y="1736"/>
                </a:cubicBezTo>
                <a:cubicBezTo>
                  <a:pt x="6449" y="1795"/>
                  <a:pt x="6443" y="1829"/>
                  <a:pt x="6424" y="1885"/>
                </a:cubicBezTo>
                <a:cubicBezTo>
                  <a:pt x="6410" y="1926"/>
                  <a:pt x="6402" y="1965"/>
                  <a:pt x="6400" y="2009"/>
                </a:cubicBezTo>
                <a:cubicBezTo>
                  <a:pt x="6397" y="2074"/>
                  <a:pt x="6375" y="2111"/>
                  <a:pt x="6375" y="2183"/>
                </a:cubicBezTo>
                <a:cubicBezTo>
                  <a:pt x="6375" y="2228"/>
                  <a:pt x="6364" y="2290"/>
                  <a:pt x="6350" y="2332"/>
                </a:cubicBezTo>
                <a:cubicBezTo>
                  <a:pt x="6348" y="2337"/>
                  <a:pt x="6334" y="2399"/>
                  <a:pt x="6325" y="2431"/>
                </a:cubicBezTo>
                <a:cubicBezTo>
                  <a:pt x="6313" y="2474"/>
                  <a:pt x="6285" y="2487"/>
                  <a:pt x="6276" y="2530"/>
                </a:cubicBezTo>
                <a:cubicBezTo>
                  <a:pt x="6266" y="2577"/>
                  <a:pt x="6257" y="2633"/>
                  <a:pt x="6251" y="2679"/>
                </a:cubicBezTo>
                <a:cubicBezTo>
                  <a:pt x="6213" y="2956"/>
                  <a:pt x="6251" y="3267"/>
                  <a:pt x="6251" y="3547"/>
                </a:cubicBezTo>
              </a:path>
              <a:path w="6028" h="4813">
                <a:moveTo>
                  <a:pt x="11832" y="5507"/>
                </a:moveTo>
                <a:cubicBezTo>
                  <a:pt x="11948" y="5507"/>
                  <a:pt x="12063" y="5507"/>
                  <a:pt x="12179" y="5507"/>
                </a:cubicBezTo>
                <a:cubicBezTo>
                  <a:pt x="12179" y="5647"/>
                  <a:pt x="12179" y="5788"/>
                  <a:pt x="12179" y="5928"/>
                </a:cubicBezTo>
                <a:cubicBezTo>
                  <a:pt x="12103" y="5928"/>
                  <a:pt x="12045" y="5925"/>
                  <a:pt x="11981" y="5904"/>
                </a:cubicBezTo>
                <a:cubicBezTo>
                  <a:pt x="11943" y="5892"/>
                  <a:pt x="11960" y="5879"/>
                  <a:pt x="11906" y="5879"/>
                </a:cubicBezTo>
                <a:cubicBezTo>
                  <a:pt x="11866" y="5879"/>
                  <a:pt x="11887" y="5854"/>
                  <a:pt x="11832" y="5854"/>
                </a:cubicBezTo>
                <a:cubicBezTo>
                  <a:pt x="11776" y="5854"/>
                  <a:pt x="11798" y="5834"/>
                  <a:pt x="11757" y="5829"/>
                </a:cubicBezTo>
                <a:cubicBezTo>
                  <a:pt x="11706" y="5822"/>
                  <a:pt x="11721" y="5809"/>
                  <a:pt x="11683" y="5804"/>
                </a:cubicBezTo>
                <a:cubicBezTo>
                  <a:pt x="11655" y="5804"/>
                  <a:pt x="11644" y="5802"/>
                  <a:pt x="11633" y="5779"/>
                </a:cubicBezTo>
              </a:path>
              <a:path w="6028" h="4813">
                <a:moveTo>
                  <a:pt x="11361" y="6028"/>
                </a:moveTo>
                <a:cubicBezTo>
                  <a:pt x="11397" y="6040"/>
                  <a:pt x="11385" y="6058"/>
                  <a:pt x="11385" y="6102"/>
                </a:cubicBezTo>
                <a:cubicBezTo>
                  <a:pt x="11385" y="6141"/>
                  <a:pt x="11410" y="6121"/>
                  <a:pt x="11410" y="6176"/>
                </a:cubicBezTo>
                <a:cubicBezTo>
                  <a:pt x="11410" y="6249"/>
                  <a:pt x="11432" y="6196"/>
                  <a:pt x="11460" y="6251"/>
                </a:cubicBezTo>
                <a:cubicBezTo>
                  <a:pt x="11472" y="6275"/>
                  <a:pt x="11483" y="6346"/>
                  <a:pt x="11485" y="6350"/>
                </a:cubicBezTo>
                <a:cubicBezTo>
                  <a:pt x="11496" y="6376"/>
                  <a:pt x="11505" y="6415"/>
                  <a:pt x="11509" y="6424"/>
                </a:cubicBezTo>
                <a:cubicBezTo>
                  <a:pt x="11530" y="6467"/>
                  <a:pt x="11490" y="6489"/>
                  <a:pt x="11485" y="6499"/>
                </a:cubicBezTo>
                <a:cubicBezTo>
                  <a:pt x="11463" y="6544"/>
                  <a:pt x="11504" y="6548"/>
                  <a:pt x="11435" y="6548"/>
                </a:cubicBezTo>
                <a:cubicBezTo>
                  <a:pt x="11242" y="6548"/>
                  <a:pt x="10931" y="6592"/>
                  <a:pt x="10790" y="6524"/>
                </a:cubicBezTo>
                <a:cubicBezTo>
                  <a:pt x="10755" y="6507"/>
                  <a:pt x="10765" y="6497"/>
                  <a:pt x="10765" y="6449"/>
                </a:cubicBezTo>
                <a:cubicBezTo>
                  <a:pt x="10765" y="6399"/>
                  <a:pt x="10765" y="6350"/>
                  <a:pt x="10765" y="630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286160" y="1374840"/>
            <a:ext cx="669960" cy="162000"/>
          </a:xfrm>
          <a:custGeom>
            <a:avLst/>
            <a:gdLst/>
            <a:ahLst/>
            <a:rect l="l" t="t" r="r" b="b"/>
            <a:pathLst>
              <a:path w="1862" h="447">
                <a:moveTo>
                  <a:pt x="13295" y="3870"/>
                </a:moveTo>
                <a:cubicBezTo>
                  <a:pt x="13295" y="3919"/>
                  <a:pt x="13280" y="3925"/>
                  <a:pt x="13271" y="3944"/>
                </a:cubicBezTo>
                <a:cubicBezTo>
                  <a:pt x="13254" y="3980"/>
                  <a:pt x="13251" y="3972"/>
                  <a:pt x="13221" y="3994"/>
                </a:cubicBezTo>
                <a:cubicBezTo>
                  <a:pt x="13185" y="4020"/>
                  <a:pt x="13161" y="4047"/>
                  <a:pt x="13146" y="4068"/>
                </a:cubicBezTo>
                <a:cubicBezTo>
                  <a:pt x="13125" y="4097"/>
                  <a:pt x="13081" y="4101"/>
                  <a:pt x="13072" y="4118"/>
                </a:cubicBezTo>
                <a:cubicBezTo>
                  <a:pt x="13060" y="4141"/>
                  <a:pt x="13029" y="4153"/>
                  <a:pt x="13022" y="4167"/>
                </a:cubicBezTo>
                <a:cubicBezTo>
                  <a:pt x="13008" y="4194"/>
                  <a:pt x="12977" y="4207"/>
                  <a:pt x="12948" y="4217"/>
                </a:cubicBezTo>
                <a:cubicBezTo>
                  <a:pt x="12961" y="4255"/>
                  <a:pt x="12977" y="4242"/>
                  <a:pt x="13022" y="4242"/>
                </a:cubicBezTo>
                <a:cubicBezTo>
                  <a:pt x="13270" y="4242"/>
                  <a:pt x="13519" y="4242"/>
                  <a:pt x="13767" y="4242"/>
                </a:cubicBezTo>
                <a:cubicBezTo>
                  <a:pt x="13709" y="4223"/>
                  <a:pt x="13777" y="4195"/>
                  <a:pt x="13742" y="4167"/>
                </a:cubicBezTo>
                <a:cubicBezTo>
                  <a:pt x="13713" y="4144"/>
                  <a:pt x="13717" y="4146"/>
                  <a:pt x="13717" y="4093"/>
                </a:cubicBezTo>
                <a:cubicBezTo>
                  <a:pt x="13717" y="4019"/>
                  <a:pt x="13717" y="3944"/>
                  <a:pt x="13717" y="3870"/>
                </a:cubicBezTo>
                <a:cubicBezTo>
                  <a:pt x="13644" y="3870"/>
                  <a:pt x="13591" y="3859"/>
                  <a:pt x="13519" y="3845"/>
                </a:cubicBezTo>
                <a:cubicBezTo>
                  <a:pt x="13459" y="3834"/>
                  <a:pt x="13380" y="3823"/>
                  <a:pt x="13320" y="3820"/>
                </a:cubicBezTo>
                <a:cubicBezTo>
                  <a:pt x="13262" y="3820"/>
                  <a:pt x="13254" y="3820"/>
                  <a:pt x="13221" y="3820"/>
                </a:cubicBezTo>
              </a:path>
              <a:path w="1862" h="447">
                <a:moveTo>
                  <a:pt x="11956" y="3994"/>
                </a:moveTo>
                <a:cubicBezTo>
                  <a:pt x="11956" y="4067"/>
                  <a:pt x="11951" y="4128"/>
                  <a:pt x="11931" y="4167"/>
                </a:cubicBezTo>
                <a:cubicBezTo>
                  <a:pt x="11913" y="4204"/>
                  <a:pt x="11869" y="4248"/>
                  <a:pt x="11906" y="4266"/>
                </a:cubicBezTo>
                <a:cubicBezTo>
                  <a:pt x="11929" y="4277"/>
                  <a:pt x="11952" y="4227"/>
                  <a:pt x="11981" y="4217"/>
                </a:cubicBezTo>
                <a:cubicBezTo>
                  <a:pt x="12088" y="4180"/>
                  <a:pt x="12267" y="4217"/>
                  <a:pt x="12378" y="4217"/>
                </a:cubicBezTo>
                <a:cubicBezTo>
                  <a:pt x="12378" y="4134"/>
                  <a:pt x="12378" y="4052"/>
                  <a:pt x="12378" y="3969"/>
                </a:cubicBezTo>
                <a:cubicBezTo>
                  <a:pt x="12246" y="3969"/>
                  <a:pt x="12113" y="3969"/>
                  <a:pt x="11981" y="396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830760" y="1419120"/>
            <a:ext cx="169920" cy="100080"/>
          </a:xfrm>
          <a:custGeom>
            <a:avLst/>
            <a:gdLst/>
            <a:ahLst/>
            <a:rect l="l" t="t" r="r" b="b"/>
            <a:pathLst>
              <a:path w="472" h="274">
                <a:moveTo>
                  <a:pt x="10740" y="3969"/>
                </a:moveTo>
                <a:cubicBezTo>
                  <a:pt x="10740" y="4018"/>
                  <a:pt x="10729" y="4028"/>
                  <a:pt x="10716" y="4068"/>
                </a:cubicBezTo>
                <a:cubicBezTo>
                  <a:pt x="10702" y="4113"/>
                  <a:pt x="10693" y="4122"/>
                  <a:pt x="10666" y="4142"/>
                </a:cubicBezTo>
                <a:cubicBezTo>
                  <a:pt x="10633" y="4166"/>
                  <a:pt x="10641" y="4181"/>
                  <a:pt x="10641" y="4217"/>
                </a:cubicBezTo>
                <a:cubicBezTo>
                  <a:pt x="10798" y="4217"/>
                  <a:pt x="10955" y="4217"/>
                  <a:pt x="11112" y="4217"/>
                </a:cubicBezTo>
                <a:cubicBezTo>
                  <a:pt x="11112" y="4126"/>
                  <a:pt x="11112" y="4035"/>
                  <a:pt x="11112" y="3944"/>
                </a:cubicBezTo>
                <a:cubicBezTo>
                  <a:pt x="10955" y="3944"/>
                  <a:pt x="10798" y="3944"/>
                  <a:pt x="10641"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2367000" y="1384200"/>
            <a:ext cx="1222200" cy="125640"/>
          </a:xfrm>
          <a:custGeom>
            <a:avLst/>
            <a:gdLst/>
            <a:ahLst/>
            <a:rect l="l" t="t" r="r" b="b"/>
            <a:pathLst>
              <a:path w="3399" h="348">
                <a:moveTo>
                  <a:pt x="9426" y="3969"/>
                </a:moveTo>
                <a:cubicBezTo>
                  <a:pt x="9426" y="4006"/>
                  <a:pt x="9416" y="4063"/>
                  <a:pt x="9401" y="4093"/>
                </a:cubicBezTo>
                <a:cubicBezTo>
                  <a:pt x="9379" y="4137"/>
                  <a:pt x="9363" y="4131"/>
                  <a:pt x="9351" y="4167"/>
                </a:cubicBezTo>
                <a:cubicBezTo>
                  <a:pt x="9383" y="4214"/>
                  <a:pt x="9531" y="4192"/>
                  <a:pt x="9599" y="4192"/>
                </a:cubicBezTo>
                <a:cubicBezTo>
                  <a:pt x="9723" y="4192"/>
                  <a:pt x="9847" y="4192"/>
                  <a:pt x="9971" y="4192"/>
                </a:cubicBezTo>
                <a:cubicBezTo>
                  <a:pt x="9971" y="4101"/>
                  <a:pt x="9971" y="4010"/>
                  <a:pt x="9971" y="3919"/>
                </a:cubicBezTo>
                <a:cubicBezTo>
                  <a:pt x="9798" y="3919"/>
                  <a:pt x="9624" y="3919"/>
                  <a:pt x="9451" y="3919"/>
                </a:cubicBezTo>
              </a:path>
              <a:path w="3399" h="348">
                <a:moveTo>
                  <a:pt x="8235" y="3894"/>
                </a:moveTo>
                <a:cubicBezTo>
                  <a:pt x="8450" y="3894"/>
                  <a:pt x="8665" y="3894"/>
                  <a:pt x="8880" y="3894"/>
                </a:cubicBezTo>
                <a:cubicBezTo>
                  <a:pt x="8880" y="3985"/>
                  <a:pt x="8880" y="4076"/>
                  <a:pt x="8880" y="4167"/>
                </a:cubicBezTo>
                <a:cubicBezTo>
                  <a:pt x="8821" y="4167"/>
                  <a:pt x="8777" y="4183"/>
                  <a:pt x="8731" y="4192"/>
                </a:cubicBezTo>
                <a:cubicBezTo>
                  <a:pt x="8595" y="4220"/>
                  <a:pt x="8424" y="4192"/>
                  <a:pt x="8285" y="4192"/>
                </a:cubicBezTo>
                <a:cubicBezTo>
                  <a:pt x="8285" y="4113"/>
                  <a:pt x="8288" y="4038"/>
                  <a:pt x="8310" y="3994"/>
                </a:cubicBezTo>
                <a:cubicBezTo>
                  <a:pt x="8317" y="3979"/>
                  <a:pt x="8310" y="3936"/>
                  <a:pt x="8310" y="3919"/>
                </a:cubicBezTo>
              </a:path>
              <a:path w="3399" h="348">
                <a:moveTo>
                  <a:pt x="7714" y="3870"/>
                </a:moveTo>
                <a:cubicBezTo>
                  <a:pt x="7557" y="3870"/>
                  <a:pt x="7400" y="3870"/>
                  <a:pt x="7243" y="3870"/>
                </a:cubicBezTo>
                <a:cubicBezTo>
                  <a:pt x="7243" y="3961"/>
                  <a:pt x="7243" y="4051"/>
                  <a:pt x="7243" y="4142"/>
                </a:cubicBezTo>
                <a:cubicBezTo>
                  <a:pt x="7433" y="4142"/>
                  <a:pt x="7623" y="4142"/>
                  <a:pt x="7813" y="4142"/>
                </a:cubicBezTo>
                <a:cubicBezTo>
                  <a:pt x="7813" y="4059"/>
                  <a:pt x="7813" y="3977"/>
                  <a:pt x="7813" y="3894"/>
                </a:cubicBezTo>
              </a:path>
              <a:path w="3399" h="348">
                <a:moveTo>
                  <a:pt x="6573" y="3894"/>
                </a:moveTo>
                <a:cubicBezTo>
                  <a:pt x="6610" y="3882"/>
                  <a:pt x="6595" y="3870"/>
                  <a:pt x="6648" y="3870"/>
                </a:cubicBezTo>
                <a:cubicBezTo>
                  <a:pt x="6699" y="3870"/>
                  <a:pt x="6701" y="3855"/>
                  <a:pt x="6722" y="3845"/>
                </a:cubicBezTo>
                <a:cubicBezTo>
                  <a:pt x="6780" y="3816"/>
                  <a:pt x="6929" y="3845"/>
                  <a:pt x="6995" y="3845"/>
                </a:cubicBezTo>
                <a:cubicBezTo>
                  <a:pt x="6995" y="3918"/>
                  <a:pt x="6990" y="3979"/>
                  <a:pt x="6970" y="4018"/>
                </a:cubicBezTo>
                <a:cubicBezTo>
                  <a:pt x="6954" y="4049"/>
                  <a:pt x="6970" y="4131"/>
                  <a:pt x="6970" y="4167"/>
                </a:cubicBezTo>
                <a:cubicBezTo>
                  <a:pt x="6932" y="4154"/>
                  <a:pt x="6950" y="4142"/>
                  <a:pt x="6896" y="4142"/>
                </a:cubicBezTo>
                <a:cubicBezTo>
                  <a:pt x="6805" y="4142"/>
                  <a:pt x="6714" y="4142"/>
                  <a:pt x="6623" y="4142"/>
                </a:cubicBezTo>
                <a:cubicBezTo>
                  <a:pt x="6623" y="4076"/>
                  <a:pt x="6623" y="4010"/>
                  <a:pt x="6623" y="394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3687840" y="509760"/>
            <a:ext cx="2000160" cy="1258560"/>
          </a:xfrm>
          <a:custGeom>
            <a:avLst/>
            <a:gdLst/>
            <a:ahLst/>
            <a:rect l="l" t="t" r="r" b="b"/>
            <a:pathLst>
              <a:path w="5558" h="3498">
                <a:moveTo>
                  <a:pt x="11485" y="3249"/>
                </a:moveTo>
                <a:cubicBezTo>
                  <a:pt x="11468" y="3223"/>
                  <a:pt x="11443" y="3208"/>
                  <a:pt x="11410" y="3175"/>
                </a:cubicBezTo>
                <a:cubicBezTo>
                  <a:pt x="11394" y="3159"/>
                  <a:pt x="11371" y="3115"/>
                  <a:pt x="11361" y="3101"/>
                </a:cubicBezTo>
                <a:cubicBezTo>
                  <a:pt x="11344" y="3078"/>
                  <a:pt x="11326" y="3070"/>
                  <a:pt x="11311" y="3051"/>
                </a:cubicBezTo>
                <a:cubicBezTo>
                  <a:pt x="11292" y="3027"/>
                  <a:pt x="11287" y="3013"/>
                  <a:pt x="11261" y="2977"/>
                </a:cubicBezTo>
                <a:cubicBezTo>
                  <a:pt x="11250" y="2962"/>
                  <a:pt x="11191" y="2908"/>
                  <a:pt x="11187" y="2902"/>
                </a:cubicBezTo>
                <a:cubicBezTo>
                  <a:pt x="11169" y="2874"/>
                  <a:pt x="11160" y="2838"/>
                  <a:pt x="11137" y="2803"/>
                </a:cubicBezTo>
                <a:cubicBezTo>
                  <a:pt x="11123" y="2782"/>
                  <a:pt x="11129" y="2751"/>
                  <a:pt x="11112" y="2729"/>
                </a:cubicBezTo>
                <a:cubicBezTo>
                  <a:pt x="11098" y="2711"/>
                  <a:pt x="11060" y="2681"/>
                  <a:pt x="11038" y="2654"/>
                </a:cubicBezTo>
                <a:cubicBezTo>
                  <a:pt x="11010" y="2619"/>
                  <a:pt x="11007" y="2603"/>
                  <a:pt x="10988" y="2580"/>
                </a:cubicBezTo>
                <a:cubicBezTo>
                  <a:pt x="10959" y="2545"/>
                  <a:pt x="10959" y="2528"/>
                  <a:pt x="10939" y="2505"/>
                </a:cubicBezTo>
                <a:cubicBezTo>
                  <a:pt x="10909" y="2469"/>
                  <a:pt x="10885" y="2440"/>
                  <a:pt x="10864" y="2406"/>
                </a:cubicBezTo>
                <a:cubicBezTo>
                  <a:pt x="10851" y="2385"/>
                  <a:pt x="10828" y="2358"/>
                  <a:pt x="10815" y="2332"/>
                </a:cubicBezTo>
                <a:cubicBezTo>
                  <a:pt x="10803" y="2307"/>
                  <a:pt x="10808" y="2285"/>
                  <a:pt x="10790" y="2257"/>
                </a:cubicBezTo>
                <a:cubicBezTo>
                  <a:pt x="10768" y="2221"/>
                  <a:pt x="10740" y="2196"/>
                  <a:pt x="10716" y="2158"/>
                </a:cubicBezTo>
                <a:cubicBezTo>
                  <a:pt x="10698" y="2130"/>
                  <a:pt x="10709" y="2119"/>
                  <a:pt x="10691" y="2084"/>
                </a:cubicBezTo>
                <a:cubicBezTo>
                  <a:pt x="10683" y="2070"/>
                  <a:pt x="10679" y="2023"/>
                  <a:pt x="10666" y="2009"/>
                </a:cubicBezTo>
                <a:cubicBezTo>
                  <a:pt x="10644" y="1985"/>
                  <a:pt x="10633" y="1994"/>
                  <a:pt x="10616" y="1960"/>
                </a:cubicBezTo>
                <a:cubicBezTo>
                  <a:pt x="10602" y="1932"/>
                  <a:pt x="10578" y="1929"/>
                  <a:pt x="10567" y="1910"/>
                </a:cubicBezTo>
                <a:cubicBezTo>
                  <a:pt x="10547" y="1877"/>
                  <a:pt x="10535" y="1855"/>
                  <a:pt x="10517" y="1836"/>
                </a:cubicBezTo>
                <a:cubicBezTo>
                  <a:pt x="10486" y="1803"/>
                  <a:pt x="10488" y="1785"/>
                  <a:pt x="10468" y="1761"/>
                </a:cubicBezTo>
                <a:cubicBezTo>
                  <a:pt x="10450" y="1740"/>
                  <a:pt x="10432" y="1702"/>
                  <a:pt x="10418" y="1687"/>
                </a:cubicBezTo>
                <a:cubicBezTo>
                  <a:pt x="10386" y="1653"/>
                  <a:pt x="10388" y="1636"/>
                  <a:pt x="10368" y="1612"/>
                </a:cubicBezTo>
                <a:cubicBezTo>
                  <a:pt x="10343" y="1582"/>
                  <a:pt x="10337" y="1554"/>
                  <a:pt x="10319" y="1538"/>
                </a:cubicBezTo>
                <a:cubicBezTo>
                  <a:pt x="10292" y="1515"/>
                  <a:pt x="10289" y="1521"/>
                  <a:pt x="10269" y="1488"/>
                </a:cubicBezTo>
                <a:cubicBezTo>
                  <a:pt x="10252" y="1460"/>
                  <a:pt x="10259" y="1468"/>
                  <a:pt x="10244" y="1439"/>
                </a:cubicBezTo>
                <a:cubicBezTo>
                  <a:pt x="10257" y="1435"/>
                  <a:pt x="10275" y="1416"/>
                  <a:pt x="10319" y="1414"/>
                </a:cubicBezTo>
                <a:cubicBezTo>
                  <a:pt x="10406" y="1410"/>
                  <a:pt x="10496" y="1433"/>
                  <a:pt x="10567" y="1439"/>
                </a:cubicBezTo>
                <a:cubicBezTo>
                  <a:pt x="10656" y="1447"/>
                  <a:pt x="10679" y="1464"/>
                  <a:pt x="10765" y="1488"/>
                </a:cubicBezTo>
                <a:cubicBezTo>
                  <a:pt x="10831" y="1507"/>
                  <a:pt x="10870" y="1511"/>
                  <a:pt x="10939" y="1513"/>
                </a:cubicBezTo>
                <a:cubicBezTo>
                  <a:pt x="11008" y="1515"/>
                  <a:pt x="11055" y="1521"/>
                  <a:pt x="11112" y="1538"/>
                </a:cubicBezTo>
                <a:cubicBezTo>
                  <a:pt x="11130" y="1543"/>
                  <a:pt x="11192" y="1554"/>
                  <a:pt x="11212" y="1563"/>
                </a:cubicBezTo>
                <a:cubicBezTo>
                  <a:pt x="11255" y="1583"/>
                  <a:pt x="11292" y="1622"/>
                  <a:pt x="11336" y="1637"/>
                </a:cubicBezTo>
                <a:cubicBezTo>
                  <a:pt x="11390" y="1655"/>
                  <a:pt x="11433" y="1688"/>
                  <a:pt x="11485" y="1712"/>
                </a:cubicBezTo>
                <a:cubicBezTo>
                  <a:pt x="11523" y="1729"/>
                  <a:pt x="11544" y="1737"/>
                  <a:pt x="11584" y="1761"/>
                </a:cubicBezTo>
                <a:cubicBezTo>
                  <a:pt x="11616" y="1780"/>
                  <a:pt x="11675" y="1792"/>
                  <a:pt x="11708" y="1811"/>
                </a:cubicBezTo>
                <a:cubicBezTo>
                  <a:pt x="11751" y="1835"/>
                  <a:pt x="11780" y="1853"/>
                  <a:pt x="11832" y="1860"/>
                </a:cubicBezTo>
                <a:cubicBezTo>
                  <a:pt x="11879" y="1867"/>
                  <a:pt x="11891" y="1870"/>
                  <a:pt x="11931" y="1885"/>
                </a:cubicBezTo>
                <a:cubicBezTo>
                  <a:pt x="11944" y="1890"/>
                  <a:pt x="12006" y="1937"/>
                  <a:pt x="12030" y="1960"/>
                </a:cubicBezTo>
                <a:cubicBezTo>
                  <a:pt x="12047" y="1976"/>
                  <a:pt x="12094" y="1995"/>
                  <a:pt x="12105" y="2009"/>
                </a:cubicBezTo>
                <a:cubicBezTo>
                  <a:pt x="12126" y="2035"/>
                  <a:pt x="12125" y="2031"/>
                  <a:pt x="12129" y="2084"/>
                </a:cubicBezTo>
                <a:cubicBezTo>
                  <a:pt x="12137" y="2183"/>
                  <a:pt x="12144" y="2295"/>
                  <a:pt x="12154" y="2381"/>
                </a:cubicBezTo>
                <a:cubicBezTo>
                  <a:pt x="12161" y="2443"/>
                  <a:pt x="12176" y="2554"/>
                  <a:pt x="12179" y="2580"/>
                </a:cubicBezTo>
                <a:cubicBezTo>
                  <a:pt x="12184" y="2617"/>
                  <a:pt x="12204" y="2702"/>
                  <a:pt x="12204" y="2704"/>
                </a:cubicBezTo>
                <a:cubicBezTo>
                  <a:pt x="12210" y="2752"/>
                  <a:pt x="12225" y="2816"/>
                  <a:pt x="12229" y="2853"/>
                </a:cubicBezTo>
                <a:cubicBezTo>
                  <a:pt x="12233" y="2887"/>
                  <a:pt x="12254" y="2951"/>
                  <a:pt x="12254" y="2952"/>
                </a:cubicBezTo>
                <a:cubicBezTo>
                  <a:pt x="12263" y="3008"/>
                  <a:pt x="12269" y="3074"/>
                  <a:pt x="12278" y="3101"/>
                </a:cubicBezTo>
                <a:cubicBezTo>
                  <a:pt x="12291" y="3141"/>
                  <a:pt x="12295" y="3163"/>
                  <a:pt x="12328" y="3175"/>
                </a:cubicBezTo>
                <a:cubicBezTo>
                  <a:pt x="12363" y="3188"/>
                  <a:pt x="12420" y="3190"/>
                  <a:pt x="12452" y="3200"/>
                </a:cubicBezTo>
                <a:cubicBezTo>
                  <a:pt x="12491" y="3212"/>
                  <a:pt x="12504" y="3221"/>
                  <a:pt x="12551" y="3225"/>
                </a:cubicBezTo>
                <a:cubicBezTo>
                  <a:pt x="12659" y="3233"/>
                  <a:pt x="12859" y="3192"/>
                  <a:pt x="12923" y="3249"/>
                </a:cubicBezTo>
                <a:cubicBezTo>
                  <a:pt x="12923" y="3257"/>
                  <a:pt x="12923" y="3266"/>
                  <a:pt x="12923" y="3274"/>
                </a:cubicBezTo>
              </a:path>
              <a:path w="5558" h="3498">
                <a:moveTo>
                  <a:pt x="11956" y="4911"/>
                </a:moveTo>
                <a:cubicBezTo>
                  <a:pt x="11956" y="4903"/>
                  <a:pt x="11956" y="4895"/>
                  <a:pt x="11956" y="4887"/>
                </a:cubicBezTo>
                <a:cubicBezTo>
                  <a:pt x="12551" y="4887"/>
                  <a:pt x="13147" y="4887"/>
                  <a:pt x="13742" y="4887"/>
                </a:cubicBezTo>
                <a:cubicBezTo>
                  <a:pt x="13718" y="4839"/>
                  <a:pt x="13718" y="4826"/>
                  <a:pt x="13692" y="4787"/>
                </a:cubicBezTo>
              </a:path>
              <a:path w="5558" h="3498">
                <a:moveTo>
                  <a:pt x="12874" y="3274"/>
                </a:moveTo>
                <a:cubicBezTo>
                  <a:pt x="13272" y="3274"/>
                  <a:pt x="13759" y="3203"/>
                  <a:pt x="14139" y="3299"/>
                </a:cubicBezTo>
                <a:cubicBezTo>
                  <a:pt x="14199" y="3314"/>
                  <a:pt x="14251" y="3313"/>
                  <a:pt x="14312" y="3324"/>
                </a:cubicBezTo>
                <a:cubicBezTo>
                  <a:pt x="14390" y="3338"/>
                  <a:pt x="14432" y="3367"/>
                  <a:pt x="14511" y="3373"/>
                </a:cubicBezTo>
                <a:cubicBezTo>
                  <a:pt x="14640" y="3382"/>
                  <a:pt x="14817" y="3386"/>
                  <a:pt x="14908" y="3398"/>
                </a:cubicBezTo>
                <a:cubicBezTo>
                  <a:pt x="14980" y="3407"/>
                  <a:pt x="15022" y="3388"/>
                  <a:pt x="15081" y="3423"/>
                </a:cubicBezTo>
                <a:cubicBezTo>
                  <a:pt x="15118" y="3445"/>
                  <a:pt x="15233" y="3520"/>
                  <a:pt x="15255" y="3547"/>
                </a:cubicBezTo>
                <a:cubicBezTo>
                  <a:pt x="15312" y="3616"/>
                  <a:pt x="15275" y="3602"/>
                  <a:pt x="15354" y="3646"/>
                </a:cubicBezTo>
                <a:cubicBezTo>
                  <a:pt x="15367" y="3653"/>
                  <a:pt x="15414" y="3683"/>
                  <a:pt x="15429" y="3696"/>
                </a:cubicBezTo>
                <a:cubicBezTo>
                  <a:pt x="15448" y="3712"/>
                  <a:pt x="15475" y="3728"/>
                  <a:pt x="15503" y="3746"/>
                </a:cubicBezTo>
                <a:cubicBezTo>
                  <a:pt x="15534" y="3766"/>
                  <a:pt x="15534" y="3757"/>
                  <a:pt x="15577" y="3770"/>
                </a:cubicBezTo>
                <a:cubicBezTo>
                  <a:pt x="15619" y="3783"/>
                  <a:pt x="15635" y="3809"/>
                  <a:pt x="15677" y="3820"/>
                </a:cubicBezTo>
                <a:cubicBezTo>
                  <a:pt x="15716" y="3830"/>
                  <a:pt x="15761" y="3815"/>
                  <a:pt x="15801" y="3820"/>
                </a:cubicBezTo>
                <a:cubicBezTo>
                  <a:pt x="15801" y="3911"/>
                  <a:pt x="15799" y="4013"/>
                  <a:pt x="15776" y="4068"/>
                </a:cubicBezTo>
                <a:cubicBezTo>
                  <a:pt x="15762" y="4101"/>
                  <a:pt x="15754" y="4103"/>
                  <a:pt x="15726" y="4142"/>
                </a:cubicBezTo>
                <a:cubicBezTo>
                  <a:pt x="15702" y="4174"/>
                  <a:pt x="15671" y="4222"/>
                  <a:pt x="15652" y="4242"/>
                </a:cubicBezTo>
                <a:cubicBezTo>
                  <a:pt x="15606" y="4290"/>
                  <a:pt x="15627" y="4263"/>
                  <a:pt x="15577" y="4291"/>
                </a:cubicBezTo>
                <a:cubicBezTo>
                  <a:pt x="15567" y="4297"/>
                  <a:pt x="15527" y="4303"/>
                  <a:pt x="15503" y="4316"/>
                </a:cubicBezTo>
                <a:cubicBezTo>
                  <a:pt x="15460" y="4339"/>
                  <a:pt x="15473" y="4345"/>
                  <a:pt x="15429" y="4366"/>
                </a:cubicBezTo>
                <a:cubicBezTo>
                  <a:pt x="15398" y="4381"/>
                  <a:pt x="15393" y="4374"/>
                  <a:pt x="15354" y="4390"/>
                </a:cubicBezTo>
                <a:cubicBezTo>
                  <a:pt x="15351" y="4391"/>
                  <a:pt x="15302" y="4406"/>
                  <a:pt x="15280" y="4415"/>
                </a:cubicBezTo>
                <a:cubicBezTo>
                  <a:pt x="15238" y="4433"/>
                  <a:pt x="15197" y="4474"/>
                  <a:pt x="15156" y="4490"/>
                </a:cubicBezTo>
                <a:cubicBezTo>
                  <a:pt x="15098" y="4513"/>
                  <a:pt x="15068" y="4512"/>
                  <a:pt x="15007" y="4514"/>
                </a:cubicBezTo>
                <a:cubicBezTo>
                  <a:pt x="14952" y="4516"/>
                  <a:pt x="14899" y="4534"/>
                  <a:pt x="14858" y="4539"/>
                </a:cubicBezTo>
                <a:cubicBezTo>
                  <a:pt x="14704" y="4556"/>
                  <a:pt x="14502" y="4515"/>
                  <a:pt x="14387" y="4564"/>
                </a:cubicBezTo>
                <a:cubicBezTo>
                  <a:pt x="14347" y="4581"/>
                  <a:pt x="14344" y="4573"/>
                  <a:pt x="14312" y="4589"/>
                </a:cubicBezTo>
                <a:cubicBezTo>
                  <a:pt x="14305" y="4592"/>
                  <a:pt x="14246" y="4629"/>
                  <a:pt x="14238" y="4638"/>
                </a:cubicBezTo>
                <a:cubicBezTo>
                  <a:pt x="14220" y="4657"/>
                  <a:pt x="14232" y="4695"/>
                  <a:pt x="14213" y="4713"/>
                </a:cubicBezTo>
                <a:cubicBezTo>
                  <a:pt x="14193" y="4732"/>
                  <a:pt x="14171" y="4755"/>
                  <a:pt x="14139" y="4762"/>
                </a:cubicBezTo>
                <a:cubicBezTo>
                  <a:pt x="14038" y="4785"/>
                  <a:pt x="13899" y="4723"/>
                  <a:pt x="13816" y="4787"/>
                </a:cubicBezTo>
                <a:cubicBezTo>
                  <a:pt x="13781" y="4814"/>
                  <a:pt x="13802" y="4809"/>
                  <a:pt x="13791" y="4862"/>
                </a:cubicBezTo>
                <a:cubicBezTo>
                  <a:pt x="13791" y="4870"/>
                  <a:pt x="13791" y="4879"/>
                  <a:pt x="13791" y="4887"/>
                </a:cubicBezTo>
              </a:path>
              <a:path w="5558" h="3498">
                <a:moveTo>
                  <a:pt x="14957" y="3894"/>
                </a:moveTo>
                <a:lnTo>
                  <a:pt x="14957" y="3894"/>
                </a:lnTo>
              </a:path>
              <a:path w="5558" h="3498">
                <a:moveTo>
                  <a:pt x="14957" y="3870"/>
                </a:moveTo>
                <a:cubicBezTo>
                  <a:pt x="14906" y="3870"/>
                  <a:pt x="14904" y="3855"/>
                  <a:pt x="14883" y="3845"/>
                </a:cubicBezTo>
                <a:cubicBezTo>
                  <a:pt x="14858" y="3832"/>
                  <a:pt x="14827" y="3822"/>
                  <a:pt x="14808" y="3820"/>
                </a:cubicBezTo>
                <a:cubicBezTo>
                  <a:pt x="14760" y="3814"/>
                  <a:pt x="14708" y="3820"/>
                  <a:pt x="14660" y="3820"/>
                </a:cubicBezTo>
                <a:cubicBezTo>
                  <a:pt x="14660" y="3936"/>
                  <a:pt x="14660" y="4051"/>
                  <a:pt x="14660" y="4167"/>
                </a:cubicBezTo>
                <a:cubicBezTo>
                  <a:pt x="14769" y="4167"/>
                  <a:pt x="14912" y="4177"/>
                  <a:pt x="14982" y="4142"/>
                </a:cubicBezTo>
                <a:cubicBezTo>
                  <a:pt x="15007" y="4130"/>
                  <a:pt x="15016" y="4101"/>
                  <a:pt x="15032" y="4093"/>
                </a:cubicBezTo>
                <a:cubicBezTo>
                  <a:pt x="15065" y="4076"/>
                  <a:pt x="15056" y="4065"/>
                  <a:pt x="15056" y="4018"/>
                </a:cubicBezTo>
                <a:cubicBezTo>
                  <a:pt x="15056" y="3969"/>
                  <a:pt x="15056" y="3919"/>
                  <a:pt x="15056" y="3870"/>
                </a:cubicBezTo>
              </a:path>
              <a:path w="5558" h="3498">
                <a:moveTo>
                  <a:pt x="12303" y="2604"/>
                </a:moveTo>
                <a:cubicBezTo>
                  <a:pt x="12477" y="2604"/>
                  <a:pt x="12650" y="2604"/>
                  <a:pt x="12824" y="2604"/>
                </a:cubicBezTo>
                <a:cubicBezTo>
                  <a:pt x="12824" y="2679"/>
                  <a:pt x="12824" y="2753"/>
                  <a:pt x="12824" y="2828"/>
                </a:cubicBezTo>
                <a:cubicBezTo>
                  <a:pt x="12727" y="2828"/>
                  <a:pt x="12611" y="2833"/>
                  <a:pt x="12551" y="2803"/>
                </a:cubicBezTo>
                <a:cubicBezTo>
                  <a:pt x="12529" y="2792"/>
                  <a:pt x="12483" y="2781"/>
                  <a:pt x="12477" y="2778"/>
                </a:cubicBezTo>
                <a:cubicBezTo>
                  <a:pt x="12434" y="2756"/>
                  <a:pt x="12326" y="2778"/>
                  <a:pt x="12278" y="2778"/>
                </a:cubicBezTo>
              </a:path>
              <a:path w="5558" h="3498">
                <a:moveTo>
                  <a:pt x="12229" y="2208"/>
                </a:moveTo>
                <a:cubicBezTo>
                  <a:pt x="12413" y="2208"/>
                  <a:pt x="12597" y="2205"/>
                  <a:pt x="12774" y="2183"/>
                </a:cubicBezTo>
                <a:cubicBezTo>
                  <a:pt x="12867" y="2171"/>
                  <a:pt x="12953" y="2146"/>
                  <a:pt x="13047" y="2133"/>
                </a:cubicBezTo>
                <a:cubicBezTo>
                  <a:pt x="13111" y="2124"/>
                  <a:pt x="13190" y="2097"/>
                  <a:pt x="13221" y="2084"/>
                </a:cubicBezTo>
                <a:cubicBezTo>
                  <a:pt x="13257" y="2069"/>
                  <a:pt x="13331" y="2084"/>
                  <a:pt x="13370" y="2084"/>
                </a:cubicBezTo>
                <a:cubicBezTo>
                  <a:pt x="13370" y="2163"/>
                  <a:pt x="13367" y="2238"/>
                  <a:pt x="13345" y="2282"/>
                </a:cubicBezTo>
                <a:cubicBezTo>
                  <a:pt x="13328" y="2317"/>
                  <a:pt x="13319" y="2307"/>
                  <a:pt x="13271" y="2307"/>
                </a:cubicBezTo>
                <a:cubicBezTo>
                  <a:pt x="13194" y="2307"/>
                  <a:pt x="13144" y="2314"/>
                  <a:pt x="13072" y="2332"/>
                </a:cubicBezTo>
                <a:cubicBezTo>
                  <a:pt x="13037" y="2341"/>
                  <a:pt x="13006" y="2353"/>
                  <a:pt x="12973" y="2356"/>
                </a:cubicBezTo>
                <a:cubicBezTo>
                  <a:pt x="12928" y="2361"/>
                  <a:pt x="12896" y="2381"/>
                  <a:pt x="12849" y="2381"/>
                </a:cubicBezTo>
                <a:cubicBezTo>
                  <a:pt x="12793" y="2381"/>
                  <a:pt x="12779" y="2406"/>
                  <a:pt x="12725" y="2406"/>
                </a:cubicBezTo>
                <a:cubicBezTo>
                  <a:pt x="12640" y="2406"/>
                  <a:pt x="12551" y="2406"/>
                  <a:pt x="12502" y="2381"/>
                </a:cubicBezTo>
                <a:cubicBezTo>
                  <a:pt x="12480" y="2370"/>
                  <a:pt x="12433" y="2359"/>
                  <a:pt x="12427" y="2356"/>
                </a:cubicBezTo>
                <a:cubicBezTo>
                  <a:pt x="12402" y="2344"/>
                  <a:pt x="12372" y="2334"/>
                  <a:pt x="12353" y="2332"/>
                </a:cubicBezTo>
                <a:cubicBezTo>
                  <a:pt x="12310" y="2327"/>
                  <a:pt x="12343" y="2320"/>
                  <a:pt x="12303" y="2307"/>
                </a:cubicBezTo>
              </a:path>
              <a:path w="5558" h="3498">
                <a:moveTo>
                  <a:pt x="12154" y="1984"/>
                </a:moveTo>
                <a:cubicBezTo>
                  <a:pt x="12297" y="1984"/>
                  <a:pt x="12446" y="1985"/>
                  <a:pt x="12576" y="1960"/>
                </a:cubicBezTo>
                <a:cubicBezTo>
                  <a:pt x="12735" y="1929"/>
                  <a:pt x="12915" y="1960"/>
                  <a:pt x="13072" y="1935"/>
                </a:cubicBezTo>
                <a:cubicBezTo>
                  <a:pt x="13135" y="1925"/>
                  <a:pt x="13140" y="1925"/>
                  <a:pt x="13171" y="1910"/>
                </a:cubicBezTo>
                <a:cubicBezTo>
                  <a:pt x="13212" y="1890"/>
                  <a:pt x="13166" y="1932"/>
                  <a:pt x="13146" y="1935"/>
                </a:cubicBezTo>
                <a:cubicBezTo>
                  <a:pt x="13088" y="1942"/>
                  <a:pt x="13103" y="1964"/>
                  <a:pt x="13072" y="1984"/>
                </a:cubicBezTo>
                <a:cubicBezTo>
                  <a:pt x="13044" y="2002"/>
                  <a:pt x="13044" y="2009"/>
                  <a:pt x="12998" y="2009"/>
                </a:cubicBezTo>
                <a:cubicBezTo>
                  <a:pt x="12802" y="2009"/>
                  <a:pt x="12472" y="1962"/>
                  <a:pt x="12328" y="2034"/>
                </a:cubicBezTo>
                <a:cubicBezTo>
                  <a:pt x="12293" y="2051"/>
                  <a:pt x="12303" y="2060"/>
                  <a:pt x="12303" y="210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 descr=""/>
          <p:cNvPicPr/>
          <p:nvPr/>
        </p:nvPicPr>
        <p:blipFill>
          <a:blip r:embed="rId1"/>
          <a:stretch/>
        </p:blipFill>
        <p:spPr>
          <a:xfrm>
            <a:off x="1979640" y="260280"/>
            <a:ext cx="3887640" cy="201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2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JasmineUPC"/>
              </a:rPr>
              <a:t>In Australia a</a:t>
            </a:r>
            <a:r>
              <a:rPr b="0" lang="en-US" sz="2400" spc="-1" strike="noStrike">
                <a:solidFill>
                  <a:srgbClr val="333399"/>
                </a:solidFill>
                <a:latin typeface="JasmineUPC"/>
              </a:rPr>
              <a:t> lot of countries have come to Australia because it is a beautiful country.</a:t>
            </a:r>
            <a:r>
              <a:rPr b="0" lang="en-US" sz="2400" spc="-1" strike="noStrike">
                <a:solidFill>
                  <a:srgbClr val="0066ff"/>
                </a:solidFill>
                <a:latin typeface="JasmineUPC"/>
              </a:rPr>
              <a:t>  </a:t>
            </a:r>
            <a:endParaRPr b="0" lang="en-US" sz="2400" spc="-1" strike="noStrike">
              <a:solidFill>
                <a:srgbClr val="000000"/>
              </a:solidFill>
              <a:latin typeface="Arial"/>
            </a:endParaRPr>
          </a:p>
        </p:txBody>
      </p:sp>
      <p:pic>
        <p:nvPicPr>
          <p:cNvPr id="50" name="" descr=""/>
          <p:cNvPicPr/>
          <p:nvPr/>
        </p:nvPicPr>
        <p:blipFill>
          <a:blip r:embed="rId1"/>
          <a:stretch/>
        </p:blipFill>
        <p:spPr>
          <a:xfrm>
            <a:off x="1835280" y="2421000"/>
            <a:ext cx="523872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000000"/>
            </a:gs>
            <a:gs pos="100000">
              <a:srgbClr val="ff0000"/>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Jasmine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JasmineUPC"/>
              </a:rPr>
              <a:t>Heaps of people come to Australia because they are escaping from the war in their country, sometimes because there were fights happening in their country, because Australia doesn't have war any more and also because Australia is a safe place to live. </a:t>
            </a:r>
            <a:endParaRPr b="0" lang="en-US" sz="3200" spc="-1" strike="noStrike">
              <a:solidFill>
                <a:srgbClr val="000000"/>
              </a:solidFill>
              <a:latin typeface="Arial"/>
            </a:endParaRPr>
          </a:p>
        </p:txBody>
      </p:sp>
      <p:pic>
        <p:nvPicPr>
          <p:cNvPr id="52" name="" descr=""/>
          <p:cNvPicPr/>
          <p:nvPr/>
        </p:nvPicPr>
        <p:blipFill>
          <a:blip r:embed="rId1"/>
          <a:stretch/>
        </p:blipFill>
        <p:spPr>
          <a:xfrm>
            <a:off x="755640" y="3598920"/>
            <a:ext cx="7632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000000"/>
            </a:gs>
            <a:gs pos="100000">
              <a:srgbClr val="66ff33"/>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loved there families so much that they left their countries to save their children from getting hurt in the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3399"/>
            </a:gs>
            <a:gs pos="100000">
              <a:srgbClr val="ffff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Many people came by ships to Australia from their countr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6" name="" descr=""/>
          <p:cNvPicPr/>
          <p:nvPr/>
        </p:nvPicPr>
        <p:blipFill>
          <a:blip r:embed="rId1"/>
          <a:stretch/>
        </p:blipFill>
        <p:spPr>
          <a:xfrm>
            <a:off x="4716360" y="3068640"/>
            <a:ext cx="2448000" cy="1646280"/>
          </a:xfrm>
          <a:prstGeom prst="rect">
            <a:avLst/>
          </a:prstGeom>
          <a:ln w="0">
            <a:noFill/>
          </a:ln>
        </p:spPr>
      </p:pic>
      <p:pic>
        <p:nvPicPr>
          <p:cNvPr id="57" name="" descr=""/>
          <p:cNvPicPr/>
          <p:nvPr/>
        </p:nvPicPr>
        <p:blipFill>
          <a:blip r:embed="rId2"/>
          <a:stretch/>
        </p:blipFill>
        <p:spPr>
          <a:xfrm>
            <a:off x="1476360" y="2852640"/>
            <a:ext cx="302436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99"/>
            </a:gs>
            <a:gs pos="50000">
              <a:srgbClr val="ff6600"/>
            </a:gs>
            <a:gs pos="100000">
              <a:srgbClr val="cc00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Australia is so lucky to have all the other immigrants come to Australi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ff0066"/>
            </a:gs>
            <a:gs pos="100000">
              <a:srgbClr val="00ff00"/>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our present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26:00Z</dcterms:created>
  <dc:creator>room17</dc:creator>
  <dc:description/>
  <dc:language>en-US</dc:language>
  <cp:lastModifiedBy>room17</cp:lastModifiedBy>
  <dcterms:modified xsi:type="dcterms:W3CDTF">2008-09-08T04:41:43Z</dcterms:modified>
  <cp:revision>8</cp:revision>
  <dc:subject/>
  <dc:title>New arrivals</dc:title>
</cp:coreProperties>
</file>